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3C3F-6ACF-43CF-807A-CE5CFDF301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C782-EEEF-424F-AB60-8A0A3DEA3C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F67D-590D-43E7-8BE3-90C7795427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CD5A-75B5-438C-A333-2911C5D75A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5C5A-5C33-49FA-90B4-B8ED9B979C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C28-EF85-41CF-8C03-6511F09F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33C-FC15-4C1F-99D6-895132D5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810-6A39-494B-B29D-34E80B19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468-F0B8-4790-8CF7-4AD8A7C8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701-D89E-46F3-BA8D-EC391EBB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F25-22D1-4A37-88C0-603FF13E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D7C-29D9-44A5-BAA0-E7C4D4C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5EB-0514-4DBE-93F3-C24BFC1C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811-9694-4D70-B767-AFE11DCB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ACE-0CDE-4D05-BD29-FD999AB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089-C501-4721-8744-D3FF6F1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4F5-F3C8-4C6D-8981-14C4433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CDA8-5838-4BDB-B71A-D3EBD456CF4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101600" y="1600200"/>
            <a:ext cx="6324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 D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b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c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 d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f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 K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hach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jota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 ka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l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m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 Q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ñ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 cu 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re/err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 X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uv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uve doble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 equis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i griega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zeta</a:t>
            </a:r>
            <a:r>
              <a:rPr b="0" lang="es-ES_tradnl" sz="1600" spc="-1" strike="noStrike">
                <a:solidFill>
                  <a:srgbClr val="0000ff"/>
                </a:solidFill>
                <a:latin typeface="바탕"/>
              </a:rPr>
              <a:t>_x0010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276720" y="10666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ALFAB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0"/>
          <p:cNvGrpSpPr/>
          <p:nvPr/>
        </p:nvGrpSpPr>
        <p:grpSpPr>
          <a:xfrm>
            <a:off x="1066680" y="5911920"/>
            <a:ext cx="7807320" cy="337320"/>
            <a:chOff x="1066680" y="5911920"/>
            <a:chExt cx="7807320" cy="337320"/>
          </a:xfrm>
        </p:grpSpPr>
        <p:sp>
          <p:nvSpPr>
            <p:cNvPr id="51" name="Rectangle 5"/>
            <p:cNvSpPr/>
            <p:nvPr/>
          </p:nvSpPr>
          <p:spPr>
            <a:xfrm>
              <a:off x="1066680" y="5911920"/>
              <a:ext cx="780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No existen otras consonantes dobles:  bb     dd     ff     gg     pp     ss     tt     z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8"/>
            <p:cNvGrpSpPr/>
            <p:nvPr/>
          </p:nvGrpSpPr>
          <p:grpSpPr>
            <a:xfrm>
              <a:off x="4568760" y="5942160"/>
              <a:ext cx="380880" cy="304560"/>
              <a:chOff x="4568760" y="5942160"/>
              <a:chExt cx="380880" cy="304560"/>
            </a:xfrm>
          </p:grpSpPr>
          <p:sp>
            <p:nvSpPr>
              <p:cNvPr id="53" name="Line 6"/>
              <p:cNvSpPr/>
              <p:nvPr/>
            </p:nvSpPr>
            <p:spPr>
              <a:xfrm flipH="1">
                <a:off x="456876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456876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"/>
            <p:cNvGrpSpPr/>
            <p:nvPr/>
          </p:nvGrpSpPr>
          <p:grpSpPr>
            <a:xfrm>
              <a:off x="5076720" y="5942160"/>
              <a:ext cx="380880" cy="304560"/>
              <a:chOff x="5076720" y="5942160"/>
              <a:chExt cx="380880" cy="304560"/>
            </a:xfrm>
          </p:grpSpPr>
          <p:sp>
            <p:nvSpPr>
              <p:cNvPr id="56" name="Line 10"/>
              <p:cNvSpPr/>
              <p:nvPr/>
            </p:nvSpPr>
            <p:spPr>
              <a:xfrm flipH="1">
                <a:off x="50767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1"/>
              <p:cNvSpPr/>
              <p:nvPr/>
            </p:nvSpPr>
            <p:spPr>
              <a:xfrm>
                <a:off x="50767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2"/>
            <p:cNvGrpSpPr/>
            <p:nvPr/>
          </p:nvGrpSpPr>
          <p:grpSpPr>
            <a:xfrm>
              <a:off x="5521320" y="5942160"/>
              <a:ext cx="380880" cy="304560"/>
              <a:chOff x="5521320" y="5942160"/>
              <a:chExt cx="380880" cy="304560"/>
            </a:xfrm>
          </p:grpSpPr>
          <p:sp>
            <p:nvSpPr>
              <p:cNvPr id="59" name="Line 13"/>
              <p:cNvSpPr/>
              <p:nvPr/>
            </p:nvSpPr>
            <p:spPr>
              <a:xfrm flipH="1">
                <a:off x="55213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4"/>
              <p:cNvSpPr/>
              <p:nvPr/>
            </p:nvSpPr>
            <p:spPr>
              <a:xfrm>
                <a:off x="55213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5"/>
            <p:cNvGrpSpPr/>
            <p:nvPr/>
          </p:nvGrpSpPr>
          <p:grpSpPr>
            <a:xfrm>
              <a:off x="5978520" y="5942160"/>
              <a:ext cx="380880" cy="304560"/>
              <a:chOff x="5978520" y="5942160"/>
              <a:chExt cx="380880" cy="304560"/>
            </a:xfrm>
          </p:grpSpPr>
          <p:sp>
            <p:nvSpPr>
              <p:cNvPr id="62" name="Line 16"/>
              <p:cNvSpPr/>
              <p:nvPr/>
            </p:nvSpPr>
            <p:spPr>
              <a:xfrm flipH="1">
                <a:off x="59785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7"/>
              <p:cNvSpPr/>
              <p:nvPr/>
            </p:nvSpPr>
            <p:spPr>
              <a:xfrm>
                <a:off x="5978520" y="594216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8"/>
            <p:cNvGrpSpPr/>
            <p:nvPr/>
          </p:nvGrpSpPr>
          <p:grpSpPr>
            <a:xfrm>
              <a:off x="6492240" y="5942160"/>
              <a:ext cx="381600" cy="304560"/>
              <a:chOff x="6492240" y="5942160"/>
              <a:chExt cx="381600" cy="304560"/>
            </a:xfrm>
          </p:grpSpPr>
          <p:sp>
            <p:nvSpPr>
              <p:cNvPr id="65" name="Line 19"/>
              <p:cNvSpPr/>
              <p:nvPr/>
            </p:nvSpPr>
            <p:spPr>
              <a:xfrm flipH="1">
                <a:off x="649224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0"/>
              <p:cNvSpPr/>
              <p:nvPr/>
            </p:nvSpPr>
            <p:spPr>
              <a:xfrm>
                <a:off x="649260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1"/>
            <p:cNvGrpSpPr/>
            <p:nvPr/>
          </p:nvGrpSpPr>
          <p:grpSpPr>
            <a:xfrm>
              <a:off x="6987600" y="5942160"/>
              <a:ext cx="381600" cy="304560"/>
              <a:chOff x="6987600" y="5942160"/>
              <a:chExt cx="381600" cy="304560"/>
            </a:xfrm>
          </p:grpSpPr>
          <p:sp>
            <p:nvSpPr>
              <p:cNvPr id="68" name="Line 22"/>
              <p:cNvSpPr/>
              <p:nvPr/>
            </p:nvSpPr>
            <p:spPr>
              <a:xfrm flipH="1">
                <a:off x="698760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23"/>
              <p:cNvSpPr/>
              <p:nvPr/>
            </p:nvSpPr>
            <p:spPr>
              <a:xfrm>
                <a:off x="698796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4"/>
            <p:cNvGrpSpPr/>
            <p:nvPr/>
          </p:nvGrpSpPr>
          <p:grpSpPr>
            <a:xfrm>
              <a:off x="7425720" y="5942160"/>
              <a:ext cx="381600" cy="304560"/>
              <a:chOff x="7425720" y="5942160"/>
              <a:chExt cx="381600" cy="304560"/>
            </a:xfrm>
          </p:grpSpPr>
          <p:sp>
            <p:nvSpPr>
              <p:cNvPr id="71" name="Line 25"/>
              <p:cNvSpPr/>
              <p:nvPr/>
            </p:nvSpPr>
            <p:spPr>
              <a:xfrm flipH="1">
                <a:off x="742572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6"/>
              <p:cNvSpPr/>
              <p:nvPr/>
            </p:nvSpPr>
            <p:spPr>
              <a:xfrm>
                <a:off x="742608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27"/>
            <p:cNvGrpSpPr/>
            <p:nvPr/>
          </p:nvGrpSpPr>
          <p:grpSpPr>
            <a:xfrm>
              <a:off x="7882920" y="5942160"/>
              <a:ext cx="381600" cy="304560"/>
              <a:chOff x="7882920" y="5942160"/>
              <a:chExt cx="381600" cy="304560"/>
            </a:xfrm>
          </p:grpSpPr>
          <p:sp>
            <p:nvSpPr>
              <p:cNvPr id="74" name="Line 28"/>
              <p:cNvSpPr/>
              <p:nvPr/>
            </p:nvSpPr>
            <p:spPr>
              <a:xfrm flipH="1">
                <a:off x="788292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9"/>
              <p:cNvSpPr/>
              <p:nvPr/>
            </p:nvSpPr>
            <p:spPr>
              <a:xfrm>
                <a:off x="7883280" y="5942160"/>
                <a:ext cx="3812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36"/>
          <p:cNvGrpSpPr/>
          <p:nvPr/>
        </p:nvGrpSpPr>
        <p:grpSpPr>
          <a:xfrm>
            <a:off x="1104120" y="5429160"/>
            <a:ext cx="1520280" cy="398880"/>
            <a:chOff x="1104120" y="5429160"/>
            <a:chExt cx="1520280" cy="398880"/>
          </a:xfrm>
        </p:grpSpPr>
        <p:sp>
          <p:nvSpPr>
            <p:cNvPr id="77" name="Rectangle 34"/>
            <p:cNvSpPr/>
            <p:nvPr/>
          </p:nvSpPr>
          <p:spPr>
            <a:xfrm>
              <a:off x="1104120" y="542916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LL       Val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5"/>
            <p:cNvSpPr/>
            <p:nvPr/>
          </p:nvSpPr>
          <p:spPr>
            <a:xfrm>
              <a:off x="1590480" y="5638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7"/>
          <p:cNvGrpSpPr/>
          <p:nvPr/>
        </p:nvGrpSpPr>
        <p:grpSpPr>
          <a:xfrm>
            <a:off x="3200400" y="5446800"/>
            <a:ext cx="1835640" cy="398880"/>
            <a:chOff x="3200400" y="5446800"/>
            <a:chExt cx="1835640" cy="398880"/>
          </a:xfrm>
        </p:grpSpPr>
        <p:sp>
          <p:nvSpPr>
            <p:cNvPr id="80" name="Rectangle 38"/>
            <p:cNvSpPr/>
            <p:nvPr/>
          </p:nvSpPr>
          <p:spPr>
            <a:xfrm>
              <a:off x="3200400" y="544680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R      Herr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>
              <a:off x="3689280" y="56559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1969200" y="28036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974960" y="3205080"/>
            <a:ext cx="7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tu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096240" y="4876920"/>
            <a:ext cx="91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u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849680" y="4910040"/>
            <a:ext cx="83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h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1867680" y="5504040"/>
            <a:ext cx="90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h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p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1885680" y="5799240"/>
            <a:ext cx="85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135880" y="204156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975680" y="2422440"/>
            <a:ext cx="63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900760" y="457200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u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868760" y="5197320"/>
            <a:ext cx="54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162320" y="2422440"/>
            <a:ext cx="495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191120" y="2041560"/>
            <a:ext cx="457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402240" y="204156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6149880" y="2422440"/>
            <a:ext cx="85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ri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172920" y="280368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6"/>
          <p:cNvGrpSpPr/>
          <p:nvPr/>
        </p:nvGrpSpPr>
        <p:grpSpPr>
          <a:xfrm>
            <a:off x="6307560" y="5257800"/>
            <a:ext cx="500760" cy="336600"/>
            <a:chOff x="6307560" y="5257800"/>
            <a:chExt cx="500760" cy="336600"/>
          </a:xfrm>
        </p:grpSpPr>
        <p:sp>
          <p:nvSpPr>
            <p:cNvPr id="98" name="Rectangle 26"/>
            <p:cNvSpPr/>
            <p:nvPr/>
          </p:nvSpPr>
          <p:spPr>
            <a:xfrm>
              <a:off x="6307560" y="5257800"/>
              <a:ext cx="500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qu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39"/>
            <p:cNvGrpSpPr/>
            <p:nvPr/>
          </p:nvGrpSpPr>
          <p:grpSpPr>
            <a:xfrm>
              <a:off x="6372360" y="5289840"/>
              <a:ext cx="380880" cy="304560"/>
              <a:chOff x="6372360" y="5289840"/>
              <a:chExt cx="380880" cy="304560"/>
            </a:xfrm>
          </p:grpSpPr>
          <p:sp>
            <p:nvSpPr>
              <p:cNvPr id="100" name="Line 40"/>
              <p:cNvSpPr/>
              <p:nvPr/>
            </p:nvSpPr>
            <p:spPr>
              <a:xfrm flipH="1">
                <a:off x="6372360" y="528984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1"/>
              <p:cNvSpPr/>
              <p:nvPr/>
            </p:nvSpPr>
            <p:spPr>
              <a:xfrm>
                <a:off x="6372360" y="5289840"/>
                <a:ext cx="38088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70"/>
          <p:cNvGrpSpPr/>
          <p:nvPr/>
        </p:nvGrpSpPr>
        <p:grpSpPr>
          <a:xfrm>
            <a:off x="6296400" y="5715000"/>
            <a:ext cx="500760" cy="336240"/>
            <a:chOff x="6296400" y="5715000"/>
            <a:chExt cx="500760" cy="336240"/>
          </a:xfrm>
        </p:grpSpPr>
        <p:sp>
          <p:nvSpPr>
            <p:cNvPr id="103" name="Rectangle 24"/>
            <p:cNvSpPr/>
            <p:nvPr/>
          </p:nvSpPr>
          <p:spPr>
            <a:xfrm>
              <a:off x="6296400" y="5715000"/>
              <a:ext cx="500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qu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63"/>
            <p:cNvGrpSpPr/>
            <p:nvPr/>
          </p:nvGrpSpPr>
          <p:grpSpPr>
            <a:xfrm>
              <a:off x="6371640" y="5746680"/>
              <a:ext cx="380880" cy="304560"/>
              <a:chOff x="6371640" y="5746680"/>
              <a:chExt cx="380880" cy="304560"/>
            </a:xfrm>
          </p:grpSpPr>
          <p:sp>
            <p:nvSpPr>
              <p:cNvPr id="105" name="Line 64"/>
              <p:cNvSpPr/>
              <p:nvPr/>
            </p:nvSpPr>
            <p:spPr>
              <a:xfrm flipH="1">
                <a:off x="6371640" y="5746680"/>
                <a:ext cx="38052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65"/>
              <p:cNvSpPr/>
              <p:nvPr/>
            </p:nvSpPr>
            <p:spPr>
              <a:xfrm>
                <a:off x="6372000" y="5746680"/>
                <a:ext cx="38052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Rectangle 69"/>
          <p:cNvSpPr/>
          <p:nvPr/>
        </p:nvSpPr>
        <p:spPr>
          <a:xfrm>
            <a:off x="1822320" y="45306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H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5" descr="letra che"/>
          <p:cNvPicPr/>
          <p:nvPr/>
        </p:nvPicPr>
        <p:blipFill>
          <a:blip r:embed="rId1"/>
          <a:stretch/>
        </p:blipFill>
        <p:spPr>
          <a:xfrm>
            <a:off x="2556000" y="4519440"/>
            <a:ext cx="555480" cy="44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7" descr="letra k"/>
          <p:cNvPicPr/>
          <p:nvPr/>
        </p:nvPicPr>
        <p:blipFill>
          <a:blip r:embed="rId2"/>
          <a:stretch/>
        </p:blipFill>
        <p:spPr>
          <a:xfrm>
            <a:off x="4114800" y="1219320"/>
            <a:ext cx="739800" cy="5950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88"/>
          <p:cNvGrpSpPr/>
          <p:nvPr/>
        </p:nvGrpSpPr>
        <p:grpSpPr>
          <a:xfrm>
            <a:off x="1471680" y="3581280"/>
            <a:ext cx="1690560" cy="911880"/>
            <a:chOff x="1471680" y="3581280"/>
            <a:chExt cx="1690560" cy="911880"/>
          </a:xfrm>
        </p:grpSpPr>
        <p:pic>
          <p:nvPicPr>
            <p:cNvPr id="111" name="Picture 82" descr="bolo info"/>
            <p:cNvPicPr/>
            <p:nvPr/>
          </p:nvPicPr>
          <p:blipFill>
            <a:blip r:embed="rId3"/>
            <a:stretch/>
          </p:blipFill>
          <p:spPr>
            <a:xfrm>
              <a:off x="1471680" y="4038480"/>
              <a:ext cx="511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68"/>
            <p:cNvSpPr/>
            <p:nvPr/>
          </p:nvSpPr>
          <p:spPr>
            <a:xfrm>
              <a:off x="1850760" y="4094280"/>
              <a:ext cx="13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tenci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ón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6"/>
            <p:cNvSpPr/>
            <p:nvPr/>
          </p:nvSpPr>
          <p:spPr>
            <a:xfrm>
              <a:off x="2332080" y="3581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89"/>
          <p:cNvGrpSpPr/>
          <p:nvPr/>
        </p:nvGrpSpPr>
        <p:grpSpPr>
          <a:xfrm>
            <a:off x="5713560" y="3200400"/>
            <a:ext cx="1701720" cy="1282680"/>
            <a:chOff x="5713560" y="3200400"/>
            <a:chExt cx="1701720" cy="1282680"/>
          </a:xfrm>
        </p:grpSpPr>
        <p:grpSp>
          <p:nvGrpSpPr>
            <p:cNvPr id="115" name="Group 84"/>
            <p:cNvGrpSpPr/>
            <p:nvPr/>
          </p:nvGrpSpPr>
          <p:grpSpPr>
            <a:xfrm>
              <a:off x="5713560" y="4038480"/>
              <a:ext cx="1701720" cy="444600"/>
              <a:chOff x="5713560" y="4038480"/>
              <a:chExt cx="1701720" cy="444600"/>
            </a:xfrm>
          </p:grpSpPr>
          <p:pic>
            <p:nvPicPr>
              <p:cNvPr id="116" name="Picture 83" descr="bolo info"/>
              <p:cNvPicPr/>
              <p:nvPr/>
            </p:nvPicPr>
            <p:blipFill>
              <a:blip r:embed="rId4"/>
              <a:stretch/>
            </p:blipFill>
            <p:spPr>
              <a:xfrm>
                <a:off x="5713560" y="4038480"/>
                <a:ext cx="51120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Rectangle 67"/>
              <p:cNvSpPr/>
              <p:nvPr/>
            </p:nvSpPr>
            <p:spPr>
              <a:xfrm>
                <a:off x="6103800" y="4078440"/>
                <a:ext cx="131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tenci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ヒラギノ角ゴ Pro W3"/>
                  </a:rPr>
                  <a:t>ón: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Line 87"/>
            <p:cNvSpPr/>
            <p:nvPr/>
          </p:nvSpPr>
          <p:spPr>
            <a:xfrm>
              <a:off x="656892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1949760" y="2943360"/>
            <a:ext cx="65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5475600" y="5775480"/>
            <a:ext cx="53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2126160" y="2185920"/>
            <a:ext cx="317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1965960" y="2567160"/>
            <a:ext cx="61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5119560" y="5470560"/>
            <a:ext cx="122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6162840" y="2185920"/>
            <a:ext cx="296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5789520" y="2567160"/>
            <a:ext cx="107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aturale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5799600" y="3336840"/>
            <a:ext cx="76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Igua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5805000" y="2948040"/>
            <a:ext cx="49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5483160" y="4830840"/>
            <a:ext cx="29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y muy pocas 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7" descr="letra zeta"/>
          <p:cNvPicPr/>
          <p:nvPr/>
        </p:nvPicPr>
        <p:blipFill>
          <a:blip r:embed="rId1"/>
          <a:stretch/>
        </p:blipFill>
        <p:spPr>
          <a:xfrm>
            <a:off x="4191120" y="1371600"/>
            <a:ext cx="644400" cy="5158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53"/>
          <p:cNvGrpSpPr/>
          <p:nvPr/>
        </p:nvGrpSpPr>
        <p:grpSpPr>
          <a:xfrm>
            <a:off x="5424480" y="3795840"/>
            <a:ext cx="1690920" cy="911520"/>
            <a:chOff x="5424480" y="3795840"/>
            <a:chExt cx="1690920" cy="911520"/>
          </a:xfrm>
        </p:grpSpPr>
        <p:grpSp>
          <p:nvGrpSpPr>
            <p:cNvPr id="131" name="Group 49"/>
            <p:cNvGrpSpPr/>
            <p:nvPr/>
          </p:nvGrpSpPr>
          <p:grpSpPr>
            <a:xfrm>
              <a:off x="5424480" y="4253040"/>
              <a:ext cx="1690920" cy="454320"/>
              <a:chOff x="5424480" y="4253040"/>
              <a:chExt cx="1690920" cy="454320"/>
            </a:xfrm>
          </p:grpSpPr>
          <p:pic>
            <p:nvPicPr>
              <p:cNvPr id="132" name="Picture 50" descr="bolo info"/>
              <p:cNvPicPr/>
              <p:nvPr/>
            </p:nvPicPr>
            <p:blipFill>
              <a:blip r:embed="rId2"/>
              <a:stretch/>
            </p:blipFill>
            <p:spPr>
              <a:xfrm>
                <a:off x="5424480" y="4253040"/>
                <a:ext cx="51120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Rectangle 51"/>
              <p:cNvSpPr/>
              <p:nvPr/>
            </p:nvSpPr>
            <p:spPr>
              <a:xfrm>
                <a:off x="5803920" y="4308480"/>
                <a:ext cx="131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tenci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ヒラギノ角ゴ Pro W3"/>
                  </a:rPr>
                  <a:t>ón: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52"/>
            <p:cNvSpPr/>
            <p:nvPr/>
          </p:nvSpPr>
          <p:spPr>
            <a:xfrm>
              <a:off x="6284880" y="3795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2437920" y="2603520"/>
            <a:ext cx="42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036840" y="3743280"/>
            <a:ext cx="61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809800" y="1893960"/>
            <a:ext cx="328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452680" y="2198520"/>
            <a:ext cx="100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t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44360" y="4917960"/>
            <a:ext cx="122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278400" y="1893960"/>
            <a:ext cx="28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029280" y="2195640"/>
            <a:ext cx="70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v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6022440" y="2965320"/>
            <a:ext cx="915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e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6028560" y="2600280"/>
            <a:ext cx="97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im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6019560" y="3346560"/>
            <a:ext cx="88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q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173160" y="526716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258840" y="562464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re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2673360" y="3898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/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374760" y="450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, GO, 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2279520" y="45086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UE,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8"/>
          <p:cNvSpPr/>
          <p:nvPr/>
        </p:nvSpPr>
        <p:spPr>
          <a:xfrm>
            <a:off x="2220840" y="4913280"/>
            <a:ext cx="122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odr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9"/>
          <p:cNvSpPr/>
          <p:nvPr/>
        </p:nvSpPr>
        <p:spPr>
          <a:xfrm>
            <a:off x="2089080" y="5262480"/>
            <a:ext cx="122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336600" y="597996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tema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2"/>
          <p:cNvSpPr/>
          <p:nvPr/>
        </p:nvSpPr>
        <p:spPr>
          <a:xfrm>
            <a:off x="400536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, G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3"/>
          <p:cNvSpPr/>
          <p:nvPr/>
        </p:nvSpPr>
        <p:spPr>
          <a:xfrm>
            <a:off x="3871800" y="4913280"/>
            <a:ext cx="1683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icara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e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4"/>
          <p:cNvSpPr/>
          <p:nvPr/>
        </p:nvSpPr>
        <p:spPr>
          <a:xfrm>
            <a:off x="3894120" y="526248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i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5" descr="letra g"/>
          <p:cNvPicPr/>
          <p:nvPr/>
        </p:nvPicPr>
        <p:blipFill>
          <a:blip r:embed="rId1"/>
          <a:stretch/>
        </p:blipFill>
        <p:spPr>
          <a:xfrm>
            <a:off x="4267080" y="1219320"/>
            <a:ext cx="752760" cy="61272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2"/>
          <p:cNvGrpSpPr/>
          <p:nvPr/>
        </p:nvGrpSpPr>
        <p:grpSpPr>
          <a:xfrm>
            <a:off x="2112840" y="2971800"/>
            <a:ext cx="1690920" cy="911880"/>
            <a:chOff x="2112840" y="2971800"/>
            <a:chExt cx="1690920" cy="911880"/>
          </a:xfrm>
        </p:grpSpPr>
        <p:grpSp>
          <p:nvGrpSpPr>
            <p:cNvPr id="158" name="Group 38"/>
            <p:cNvGrpSpPr/>
            <p:nvPr/>
          </p:nvGrpSpPr>
          <p:grpSpPr>
            <a:xfrm>
              <a:off x="2112840" y="3429000"/>
              <a:ext cx="1690920" cy="454680"/>
              <a:chOff x="2112840" y="3429000"/>
              <a:chExt cx="1690920" cy="454680"/>
            </a:xfrm>
          </p:grpSpPr>
          <p:pic>
            <p:nvPicPr>
              <p:cNvPr id="159" name="Picture 39" descr="bolo info"/>
              <p:cNvPicPr/>
              <p:nvPr/>
            </p:nvPicPr>
            <p:blipFill>
              <a:blip r:embed="rId2"/>
              <a:stretch/>
            </p:blipFill>
            <p:spPr>
              <a:xfrm>
                <a:off x="2112840" y="3429000"/>
                <a:ext cx="51120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Rectangle 40"/>
              <p:cNvSpPr/>
              <p:nvPr/>
            </p:nvSpPr>
            <p:spPr>
              <a:xfrm>
                <a:off x="2492280" y="3484800"/>
                <a:ext cx="131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tenci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ヒラギノ角ゴ Pro W3"/>
                  </a:rPr>
                  <a:t>ón: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Line 41"/>
            <p:cNvSpPr/>
            <p:nvPr/>
          </p:nvSpPr>
          <p:spPr>
            <a:xfrm>
              <a:off x="2973240" y="297180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9:15:17Z</dcterms:created>
  <dc:creator>XYZ</dc:creator>
  <dc:description/>
  <dc:language>en-US</dc:language>
  <cp:lastModifiedBy>Susana</cp:lastModifiedBy>
  <cp:lastPrinted>2007-06-19T13:36:00Z</cp:lastPrinted>
  <dcterms:modified xsi:type="dcterms:W3CDTF">2015-10-07T10:43:15Z</dcterms:modified>
  <cp:revision>160</cp:revision>
  <dc:subject/>
  <dc:title>Παρουσίαση του PowerPoint</dc:title>
</cp:coreProperties>
</file>